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C38-00BC-4102-A957-E7915185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49A-FBCF-4007-99B0-391160F2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F7B47-CCB4-4F11-A761-8F0BAA5D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6CC78-6073-4A7C-8930-635472E5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8CC61-AFEF-4EBA-9942-CF12347D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34661-16D6-42FB-A95E-40AA728B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D840E-63B6-45AB-B825-FAF98065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8A20C-B3F7-4AAC-8CF2-C91A4BE6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03753-B41F-4CDB-A992-FAF51D85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5C673-4A23-4FCF-A18C-7F3DDAF5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892F4-D6C8-4D80-9985-52ADC370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B3351-935D-4B9B-9E83-DEAC14A3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329-1390-4EFB-8FF8-E228E027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C5D57-A6E8-473B-9842-05B546F8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E2E98-C43E-4EF7-B246-FB88D2D3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866CD-746E-4FFA-BFB7-2B962313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26C0F-A3F6-4078-A4CF-4156705C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A61E9-B585-4EF2-9E06-E4020066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97CE5-E828-4D69-BCAB-608FB8F3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F80E4-F210-43D0-B1DD-D47D83C4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59E24-444A-4D00-A42F-039A0661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DB950-AD45-416D-95A1-BFF64DD0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A2625-CB6B-4423-821A-AD7414D4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F04-A79B-49E8-BFA3-3A8AC074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02507-143E-49A3-A7BE-285947DE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D142A-819E-493D-91E5-87EF24F2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980FB-800E-4CD7-B5C3-5E24D99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3E223-B164-42AD-B81C-A0EDED54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8E24B-EA88-4D26-BC99-34FF1C25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736F5-D07F-4D40-8B09-D3E6B52E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5931B-43EE-4B32-962B-4EBC4D6F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CB18C-9D7F-423F-90F9-BD36B451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39AE9-A017-4A9E-B5C9-A6F791A8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338B4-EC26-4747-A15B-6747D61A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EFC8-A023-4824-A464-3172BC86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8D55A-2138-40EE-B23A-EDCF01A9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D09D4-85A6-49FC-85BC-CABEC91C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385F8-CC40-425D-AB92-4C823631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3CC7D-3207-4F3E-9379-2CC91BC0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AED91-005F-4920-8ED4-17D8DBD6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07D1A-BD6E-4959-B72C-8D6B94E5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86672-5FEC-4E82-8A89-448B57DC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FA287-5362-4AB0-B926-020B3174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96284-1FFD-4911-9FC0-67F8F992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3193F-0FEA-40A0-894D-35A31EA2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1D5D-5C87-4BEF-A718-2B1E7CAA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DFB62-DE7E-40C8-AE80-0B085D57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A0E6B-25F2-4772-9E32-C505E54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23EFF-0072-4886-85FC-4AB45E4B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C85F6-A12F-47F8-B055-91DE4C53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61191-6D30-48B0-8915-E3FB0C42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4A42-107A-4C78-8705-63497548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6934-EA50-4AD7-BE20-9E0A891A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8DC3-6AD1-4C98-8F7C-EA6246E7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CC16-54FF-4DFE-86E7-59B4D764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8E3A-E301-415B-B4F1-8C328DD3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939-6A7C-4914-ACFD-FE591094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3734-65C7-4839-9712-AF62F80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695D-8356-4298-B0DA-9E4C37A8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058C-48A9-43E9-AA1F-E9245A44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D392-48F0-4E78-BA1B-BD945F8A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C235-4844-4F0C-AD09-8C3E6205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A521-7E60-40DD-98D7-4FE45A25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007C-537A-4F98-86FF-52475798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5830-716E-496A-923C-B5616D39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4EFB-BBCE-4BCB-A726-2F1A6ABD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6923-C798-40B0-903E-849E576A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AC2-31BD-45C4-9FDF-F8BA7BC1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E1E2-6734-447B-B782-22862863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B2CB-B314-410C-91B1-C43CA810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6F7C-3E2B-4F72-9F4C-46948A06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1FF9-E421-49B9-91A3-9D3878DD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8AA76-A561-492C-BC73-42625C99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9A08-D0BB-432B-BA35-89B7E932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07171-33BD-42F6-A939-23CA1FE4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1D295-05C9-46E7-81E2-DA874AAE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AFB5-8213-4C61-9E83-6C2A2497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356D4-1988-4D03-AFF2-9EC8BB92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302-F571-4D50-8AEF-55DD1089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AAC16-F13E-4624-938C-E14F4E60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869B-B914-4482-B3C8-F9272626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D58BC-16D8-4BD1-B0B3-AE0AFEC2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697BF-04F9-4C02-A3CF-8CCD97D9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69F40-AFA2-472B-A609-2FAE78CC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949AE-5399-4658-BD2C-D6189792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E2652-2AF1-4482-97AF-9CAE0AA1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5A61A-DEEE-4E2F-B7B0-B9CAA008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F4FB-5927-4EF7-8B18-DEE6DE43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85085-B4FF-4A16-BA41-BA9DC2EB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E45-2180-46FF-8B5E-72AE04DB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6F06-5621-4543-85BC-0C76DE51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4D76-A583-4916-9CB0-19DC5244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D8906-C1D3-4AB4-99AA-434114BF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F8CBE-13AF-4A29-8268-118F496C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05DDE-46B2-4FE1-9607-A4D5E074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090A-F690-474E-8203-D1B1BFD6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6A4D-87E1-459D-8F98-A244B664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89E2C-8044-4FA2-AF48-AF9C121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0BC43-459B-463D-B7B8-C3F7592A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ECC0-A34B-4508-86A4-87A3D7BE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6EF-BECA-4628-99C2-AA4FF41E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8878D-F135-48CD-A305-21B4CAFC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BDB6E-F170-4712-AE31-B451EA3C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E0D62-A3CB-42F8-B6CD-8F7BAE86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215A2-88BC-48C7-BA9E-68B8D7BB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B7AF6-0753-4639-825B-102A6037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5677E-AC30-47F7-89F1-DAD8CF5C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5F7EE-BC4F-46B9-A896-0B445DC9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05192-C5A0-401E-BA4C-65C9303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BB295-41C3-49A4-BDDC-03537ED4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D89D9-4A7D-4080-93C9-A0E47D13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3F4-6917-4BD9-94C7-DCEE1C6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0C4FE-A110-47F3-992A-21998158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58CD7-9E68-464D-8505-8C429076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B8971-676A-4C20-B16C-D01B61E2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7F4CA-065E-4FC9-BE2F-2738BDCD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E017A-ABC7-4366-88EA-D3AFCA76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783BB-99F7-4DD7-A5CB-F8DFE44E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A5469-5669-4625-9424-029515D6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AF5C1-7351-4F51-B803-7EC71DF0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9FE46-E648-4FE3-B048-10CB6834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FEADC-4C61-4A9F-AB88-1C1C822F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BEA-F554-4BCB-90A9-A46C4C6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F7FE8-2E99-4A9A-A5C6-D69C8890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F1CA0-267B-4D97-852F-F226186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D1779-219E-45BE-BFAE-E2B3CB5A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F3C47-2EA4-4068-AD93-1DB739EB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DC74F-B41A-464D-B514-A61EA280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396AD-C1C5-4AD2-AE54-0D8B2F3F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CAFE0-1A2F-4E6A-822A-0B11F5E9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ADBAC-FF14-4312-AEC6-36406BB1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5D99F-1C84-488D-9194-88E7575E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398B3-9068-4F4C-9332-8097231F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00D-118B-4D9A-A6FF-BF79EED5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D8188-B4E3-4FDF-954C-EF3C0AB7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ECDA5-3AB0-4DF6-9FAB-D4E18C4C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BBB08-3303-40F7-8B62-2132BF4C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AB02C-6BE5-4D58-B7B6-BC58183B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71EC7-D4CE-4989-9BC9-70CB66C4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68019-17F0-4AFF-BFBE-E7E2C72A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791CA-1A5F-47AB-83D0-B5D9DB98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A3D24-04C9-45CC-A2B6-1A67A6AB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5203A-DF1E-49D6-8C78-1398EE20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A5BD7-B3EF-4EA8-9ED8-26798724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596E-DCD8-4FD8-9635-49773B0CF22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6281-5940-4D8A-8D8A-8C528F70C3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6F3C-4CB0-46DE-8E23-0BD871A2C4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8204-2D46-485B-9431-6A1E923A0E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8BB9-D87D-4255-9FE5-A09B72226E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04E3-79B0-4DB5-844D-F8BF2B03CA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9486-8B05-46C3-B65C-88960520EF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F9A3-D85F-4D58-9759-12F4BBD665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3502-A3C9-4EE4-8180-C39110FEB2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F768-6488-4783-9989-A851E0341E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8028-F11F-41B2-85D5-0C1C8CE355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4CA5-AF08-4A5C-AE43-92A7B0C792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15 Na teba, drahý Otč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eba, drahý Otče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ak upierame s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kajúcnikov prijím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hriechy naše odpúšť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/:vieš stíšiť nepokoj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š liek na rany, bole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naše blaho dbá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zývame ťa v úzk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vytrhuješ z ťažkos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/: ty s nami súcit máš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y slabí, biedni s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zmocniť, Pane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tvoju tvár vždy hľadá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a tebou len kráča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/: tvoj počujeme hlas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zvlažuj rosou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ŕdc nám vďačnosť vl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ducha znášanliv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pravej obetav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/: a lásky úprimnej.:/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25:10Z</dcterms:modified>
  <cp:revision>19</cp:revision>
  <dc:subject/>
  <dc:title>Je veľký náš Pán, on slávy je Kráľ Nech do všetkých strán  spev vrúcnych znie chvál.</dc:title>
</cp:coreProperties>
</file>